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158-67A2-4C75-A4E1-38E9213A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1D0-7673-4969-8C0A-0F5EAEA0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B8E-AA6C-43A4-9AD8-A0A19886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9EF-0055-4DB5-9967-AE824DCF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D100-5CDF-4A5B-BE3E-9405D329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DD0-5328-4837-AA52-D91623FB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18E-1660-49B4-8997-B456FD7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B57D-C43B-417F-BA8F-59C835B9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20B6-6335-4603-88E8-C15234B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DB51-AF96-40F4-9DF9-09F97852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7612-BFB6-45E3-ACB0-61BABE5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F2D-5EB1-4F91-BFCE-1B5912C6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2842-8BD9-4D33-9B47-A7687267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2166-363C-42D5-92DF-377D17A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7C1C-D316-4617-8E00-C2B4AC2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6DB5-9877-49D5-9071-EBA5A258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F880-D134-4690-AE8C-6FDB5123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7203-22A8-4864-9708-6AA0A427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93C8-7830-4F4C-B867-A4AF46A6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9A14-47D7-45EF-A83D-B1B0461C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6868-9216-4332-8E39-A819F22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3EE2-167E-4B3C-8D14-6FB595C8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8FD-A9EB-4F8C-92BF-688282FE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51E6-3FF6-4842-9CC0-8448EAFA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F6B1-42E5-4083-912E-2476970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31B6-4636-48DD-B4CC-3D84AEC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EA70-79A3-4440-9375-E2C2D524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CD7E-38D8-4194-BB97-6AD6AE8A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38B0-EA3B-479F-A145-08EB0985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F027-3253-465B-B3CE-FC5CB566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BA35-7FE2-49D0-8E66-999C07DC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E8CD-97CD-4718-B114-6E99ED93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C99A-94FF-4E45-BED4-C9DA68AB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042-3617-4FB6-8DEE-DFF2EF2F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FFEE-6788-4735-9251-931B46AB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08328-228D-418D-B35E-B0FBA73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7F08-4882-48B4-B040-7CADEA5A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4A4B-1AF8-418A-B14E-ECF22AA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11B77-7DA5-407F-928C-619ED96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1187-BF60-40FA-A06C-36E67D5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7139-ED21-446C-A9F8-A1878FD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C002-7AE3-4ED5-92DB-53632339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82A6-9D5B-411F-9D7C-A355AEF9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3B015-EFE3-4DC4-BEF5-DE467AB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96E-5E0E-46C1-B668-84CAC04F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EBFD-DDED-420D-BD68-A6F052EB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6125-C7B3-4A36-AD3D-70845EBE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16BB-199F-42A9-AFBA-9F3E81EE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3B14-E54F-466E-BCCF-7C3829A4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72BF-4BA5-4857-B6C0-99A107B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57FE-BA3B-4DE4-89EA-9A2BE35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186C-D303-46A8-A730-B2A34CEA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8649E-EE4B-471B-AAD5-91DD429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1E543-63F1-4F04-BBDA-FE1249B9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6AD84-DAF9-454A-938B-39FC56F9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09E-D60B-425B-B1E3-FB8AA4C9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A000-B55C-47A8-8019-5F4AB418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77B96-A372-4590-AEE9-6B8D3190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EC6BB-3D74-4C40-8191-B7A70B69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86F7-7116-4916-96BC-D59C3548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C498-13AF-4163-BD09-9944F79E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AB0BD-0A61-4D1A-B1D7-D3EEE10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934A8-DEC5-4DEB-876E-8B09E911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95077-B64A-47D8-9892-78A2762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9C662-B72D-4CE1-8B8D-D66DD77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1DF0-F28B-4A1C-BD00-5AC9190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7ED-CDA6-430D-B3B8-AA95869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98C6B-3ABA-4192-8A80-EF0EAA9D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D2DF-B372-44D6-9CC1-2BF9C942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E1C9-8B33-4A29-B764-63176931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6D0D1-2D45-4334-9A24-49C73EA0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FEB2C-6A24-4B89-BA56-7F6DFCE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DD69-798D-4F4F-87CB-806F219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A459-7ACA-48E7-A762-7AF163EF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49DEC-5EB7-4347-90D8-BE68AFC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2B47E-FA19-47D5-9866-DE13C347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6CC49-F18E-4303-8870-44910A1B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6A7-766C-4EE2-87B2-9CD6EFA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B3019-145F-4449-9143-D089E391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0BEEE-C5D3-413E-B929-C5E9FFB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D1B3-92A6-4055-8D78-E04840AA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4C09F-5EB6-4D6E-95CF-106EAC64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B846-4DF9-4791-96A5-B76248F0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30E0-7B59-4D0E-9558-295A863E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6226-26E1-4537-917F-2768D2DE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02E0-A198-4AD3-823B-C458F14C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C4358-3ABF-4254-B605-065C371F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2EC2-6B9B-4F31-8D43-2FCBAE7C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1D0-F60D-4E78-93BF-F37F52B7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5031-59D0-46DC-B485-DCBCEC1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82C6-4A5B-4BA7-AB58-487C06D5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81037-3CB7-4AB0-8BC5-D4B64627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545C6-036F-4821-84B6-D1884DA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B325C-81ED-416C-8D0F-D0CE82A0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27A7-2153-4650-970B-F0273B7D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7A066-AFC6-415F-89D6-BA11EEE9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16C2B-071B-4E10-8077-32170D170EE4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B2183-70EF-4914-83D6-DEA453C4002F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0E475-7332-4DC2-995F-775C94FEA68A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74C62-33E9-4629-BC1B-63AC79EE0D20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8D949-B1F1-4E1D-8427-D8E72EA21300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03C48-29A2-4F12-B198-1A7EB12A5B60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339EC-A2B4-4125-BFC0-77B8CF355F13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42EC3-3F01-4B4C-9C0F-8B43A69EC2E6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tle 1"/>
          <p:cNvSpPr/>
          <p:nvPr/>
        </p:nvSpPr>
        <p:spPr>
          <a:xfrm>
            <a:off x="836640" y="1336680"/>
            <a:ext cx="840744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NÔNG NGHIỆP CÔNG NGHỆ CA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VÀ HƯỚNG PHÁT TRIỂN Ở VIỆT 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itle 1"/>
          <p:cNvSpPr/>
          <p:nvPr/>
        </p:nvSpPr>
        <p:spPr>
          <a:xfrm>
            <a:off x="1444680" y="695160"/>
            <a:ext cx="7407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843120" y="450720"/>
          <a:ext cx="9342360" cy="885960"/>
        </p:xfrm>
        <a:graphic>
          <a:graphicData uri="http://schemas.openxmlformats.org/drawingml/2006/table">
            <a:tbl>
              <a:tblPr/>
              <a:tblGrid>
                <a:gridCol w="4671720"/>
                <a:gridCol w="4670640"/>
              </a:tblGrid>
              <a:tr h="8859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Box 5"/>
          <p:cNvSpPr/>
          <p:nvPr/>
        </p:nvSpPr>
        <p:spPr>
          <a:xfrm>
            <a:off x="2849400" y="60436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P.HCM, ngày 9 tháng 3 năm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7520" y="-19080"/>
            <a:ext cx="16286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52520" y="1239480"/>
            <a:ext cx="43768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2806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6ba"/>
                </a:solidFill>
                <a:latin typeface="Arial"/>
                <a:ea typeface="Arial"/>
              </a:rPr>
              <a:t>Tồn tại, hạn chế</a:t>
            </a:r>
            <a:br>
              <a:rPr sz="2800"/>
            </a:br>
            <a:r>
              <a:rPr b="1" lang="en-US" sz="2800" spc="-1" strike="noStrike">
                <a:solidFill>
                  <a:srgbClr val="2806b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8080" y="159984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2560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ính sách chưa đi vào cuộc số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2560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y hoạch chưa đáp ứng được đòi hỏi thực tiễ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2560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 đầu tư cho KHCN ít về số lượng, yếu về nguồn lự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2560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ưa hình thành được các nhiệm vụ tạo và phát triển CNC trong N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hiệm vụ tuy có tập trung nhưng vẫn chưa mang tính đột phá về CNC nên giá trị gia tăng chưa ca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42560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 hút đầu tư, xã hội hoá đầu tư thấp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7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34800" y="-19080"/>
            <a:ext cx="1627200" cy="1920960"/>
          </a:xfrm>
          <a:prstGeom prst="rect">
            <a:avLst/>
          </a:prstGeom>
          <a:ln w="0">
            <a:noFill/>
          </a:ln>
        </p:spPr>
      </p:pic>
      <p:sp>
        <p:nvSpPr>
          <p:cNvPr id="498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PHƯƠNG HƯỚNG GIẢI PHÁ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01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1268280" y="1217520"/>
            <a:ext cx="77328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2806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6ba"/>
                </a:solidFill>
                <a:latin typeface="Arial"/>
                <a:ea typeface="Arial"/>
              </a:rPr>
              <a:t>Nguyên nhâ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Công tá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uyền thông 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  <a:ea typeface="Arial"/>
              </a:rPr>
              <a:t>còn hạn chế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Nhận thức về khu và vù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NUDCNC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chưa đúng theo quy định tại Luật Công nghệ cao và Luật Đất đa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ính sách chưa đồng bộ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Chạy đua trong việ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quy hoạch,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xây dựng kh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NUDCNC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nhưng nguồn lực có hạn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052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Đ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ề xuất bổ sung, điều chỉnh quy hoạch tổng thể kh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NUDCNC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như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ư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chuẩn bị về căn cứ pháp lý cũng như nguồn lực để xây dựng kh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08252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9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34800" y="-19080"/>
            <a:ext cx="1627200" cy="1920960"/>
          </a:xfrm>
          <a:prstGeom prst="rect">
            <a:avLst/>
          </a:prstGeom>
          <a:ln w="0">
            <a:noFill/>
          </a:ln>
        </p:spPr>
      </p:pic>
      <p:sp>
        <p:nvSpPr>
          <p:cNvPr id="510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PHƯƠNG HƯỚNG GIẢI PHÁ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1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13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57480" y="1142640"/>
            <a:ext cx="75578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2806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6ba"/>
                </a:solidFill>
                <a:latin typeface="Arial"/>
                <a:ea typeface="Arial"/>
              </a:rPr>
              <a:t>Phương hướng, giải pháp</a:t>
            </a:r>
            <a:r>
              <a:rPr b="0" lang="en-US" sz="2400" spc="-1" strike="noStrike">
                <a:solidFill>
                  <a:srgbClr val="2806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àn thiện thể chế, chính sách tạo hành lang pháp lý phát triể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NUDCNC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, hình thành vù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XNNUDCN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ăng cường vốn đầu tư công cho ngành nông nghiệp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CHC để 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huyến khích doanh nghiệp đầu tư nghiên cứu, ứng dụng KHCN, tham gia thực hiện Chương trình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ăng cường năng lực, tính năng động của các tổ chức nghiên cứu và chuyển gia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Các địa phương trong quy hoạch chủ động cân đố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địa phươ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huy động các nguồn lực đầu tư xây dựng kh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vùng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NUDCNC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đảm bảo hoạt động bền vững, hiệu quả cao của khu, vùn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222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222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8338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34800" y="-19080"/>
            <a:ext cx="1627200" cy="1920960"/>
          </a:xfrm>
          <a:prstGeom prst="rect">
            <a:avLst/>
          </a:prstGeom>
          <a:ln w="0">
            <a:noFill/>
          </a:ln>
        </p:spPr>
      </p:pic>
      <p:sp>
        <p:nvSpPr>
          <p:cNvPr id="523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PHƯƠNG HƯỚNG GIẢI PHÁ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26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57480" y="1001520"/>
            <a:ext cx="75578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6ba"/>
                </a:solidFill>
                <a:latin typeface="Arial"/>
                <a:ea typeface="Arial"/>
              </a:rPr>
              <a:t>Kiến ngh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à soát sửa đổi, bổ sung một số VBQPP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ó chính sách ưu đãi đồng bộ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ác địa phương căn cứ các Luật, và VB hướng dẫn hiện hành về NNCNC để quy hoạch và phát triển khu và vù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ó chính sách của địa phương để khuyến khích, thu hút đầu tư vào NNUDCN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7400" indent="-342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ã hội hóa đầu tư, sản xuất nông nghiệp CN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95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34800" y="-19080"/>
            <a:ext cx="1627200" cy="1920960"/>
          </a:xfrm>
          <a:prstGeom prst="rect">
            <a:avLst/>
          </a:prstGeom>
          <a:ln w="0">
            <a:noFill/>
          </a:ln>
        </p:spPr>
      </p:pic>
      <p:sp>
        <p:nvSpPr>
          <p:cNvPr id="535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PHƯƠNG HƯỚNG GiẢI PHÁ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0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538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4"/>
          <p:cNvSpPr/>
          <p:nvPr/>
        </p:nvSpPr>
        <p:spPr>
          <a:xfrm>
            <a:off x="56386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7520" y="0"/>
            <a:ext cx="1628640" cy="1920960"/>
          </a:xfrm>
          <a:prstGeom prst="rect">
            <a:avLst/>
          </a:prstGeom>
          <a:ln w="0">
            <a:noFill/>
          </a:ln>
        </p:spPr>
      </p:pic>
      <p:pic>
        <p:nvPicPr>
          <p:cNvPr id="546" name="Rectangle 1" descr=""/>
          <p:cNvPicPr/>
          <p:nvPr/>
        </p:nvPicPr>
        <p:blipFill>
          <a:blip r:embed="rId2"/>
          <a:stretch/>
        </p:blipFill>
        <p:spPr>
          <a:xfrm>
            <a:off x="1401840" y="1920960"/>
            <a:ext cx="7138800" cy="93816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10"/>
          <p:cNvGrpSpPr/>
          <p:nvPr/>
        </p:nvGrpSpPr>
        <p:grpSpPr>
          <a:xfrm>
            <a:off x="-4680" y="5502240"/>
            <a:ext cx="9161280" cy="1368360"/>
            <a:chOff x="-4680" y="5502240"/>
            <a:chExt cx="9161280" cy="1368360"/>
          </a:xfrm>
        </p:grpSpPr>
        <p:pic>
          <p:nvPicPr>
            <p:cNvPr id="548" name="Picture 4" descr="http://giatour.vn/wp-content/uploads/2013/07/da-lat-11.jpg"/>
            <p:cNvPicPr/>
            <p:nvPr/>
          </p:nvPicPr>
          <p:blipFill>
            <a:blip r:embed="rId3"/>
            <a:stretch/>
          </p:blipFill>
          <p:spPr>
            <a:xfrm>
              <a:off x="-4680" y="5502240"/>
              <a:ext cx="14713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" descr="DSC05336"/>
            <p:cNvPicPr/>
            <p:nvPr/>
          </p:nvPicPr>
          <p:blipFill>
            <a:blip r:embed="rId4"/>
            <a:stretch/>
          </p:blipFill>
          <p:spPr>
            <a:xfrm>
              <a:off x="1466640" y="5502240"/>
              <a:ext cx="16027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図 5" descr=""/>
            <p:cNvPicPr/>
            <p:nvPr/>
          </p:nvPicPr>
          <p:blipFill>
            <a:blip r:embed="rId5"/>
            <a:stretch/>
          </p:blipFill>
          <p:spPr>
            <a:xfrm>
              <a:off x="3057480" y="5502240"/>
              <a:ext cx="156600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2" descr="DSC06006"/>
            <p:cNvPicPr/>
            <p:nvPr/>
          </p:nvPicPr>
          <p:blipFill>
            <a:blip r:embed="rId6"/>
            <a:stretch/>
          </p:blipFill>
          <p:spPr>
            <a:xfrm>
              <a:off x="4623480" y="5502240"/>
              <a:ext cx="16027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5" descr="DSCF1561"/>
            <p:cNvPicPr/>
            <p:nvPr/>
          </p:nvPicPr>
          <p:blipFill>
            <a:blip r:embed="rId7"/>
            <a:stretch/>
          </p:blipFill>
          <p:spPr>
            <a:xfrm>
              <a:off x="7743240" y="5502240"/>
              <a:ext cx="1413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2" descr="http://img.giaoducvietnam.vn/w500/Uploaded/tuanluc/2015_04_07/trangtrai4.jpg"/>
            <p:cNvPicPr/>
            <p:nvPr/>
          </p:nvPicPr>
          <p:blipFill>
            <a:blip r:embed="rId8"/>
            <a:stretch/>
          </p:blipFill>
          <p:spPr>
            <a:xfrm>
              <a:off x="6226560" y="5502240"/>
              <a:ext cx="1516680" cy="108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33280"/>
            <a:ext cx="749952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NỘI DUNG CHÍNH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600" y="10839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1617"/>
                </a:solidFill>
                <a:latin typeface="Arial"/>
                <a:ea typeface="Arial"/>
              </a:rPr>
              <a:t>Hoàn thiện cơ chế chính sá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1617"/>
                </a:solidFill>
                <a:latin typeface="Arial"/>
                <a:ea typeface="Arial"/>
              </a:rPr>
              <a:t>Chương trình phát triển NNUDCN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Xây dựng và phát triển  NNUDCN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2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ạo và phát triển CNC trong N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2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Ứng dụng CNC trong N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1617"/>
                </a:solidFill>
                <a:latin typeface="Arial"/>
                <a:ea typeface="Arial"/>
              </a:rPr>
              <a:t>Phương hướng giải phá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Line 4"/>
          <p:cNvSpPr/>
          <p:nvPr/>
        </p:nvSpPr>
        <p:spPr>
          <a:xfrm>
            <a:off x="1434960" y="1176480"/>
            <a:ext cx="723924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375" name="Picture 4" descr="http://giatour.vn/wp-content/uploads/2013/07/da-lat-11.jpg"/>
            <p:cNvPicPr/>
            <p:nvPr/>
          </p:nvPicPr>
          <p:blipFill>
            <a:blip r:embed="rId1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2" descr="DSC05336"/>
            <p:cNvPicPr/>
            <p:nvPr/>
          </p:nvPicPr>
          <p:blipFill>
            <a:blip r:embed="rId2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図 5" descr=""/>
            <p:cNvPicPr/>
            <p:nvPr/>
          </p:nvPicPr>
          <p:blipFill>
            <a:blip r:embed="rId3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" descr="DSC06006"/>
            <p:cNvPicPr/>
            <p:nvPr/>
          </p:nvPicPr>
          <p:blipFill>
            <a:blip r:embed="rId4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5" descr="DSCF1561"/>
            <p:cNvPicPr/>
            <p:nvPr/>
          </p:nvPicPr>
          <p:blipFill>
            <a:blip r:embed="rId5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" descr="http://img.giaoducvietnam.vn/w500/Uploaded/tuanluc/2015_04_07/trangtrai4.jpg"/>
            <p:cNvPicPr/>
            <p:nvPr/>
          </p:nvPicPr>
          <p:blipFill>
            <a:blip r:embed="rId6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Picture 2" descr="C:\Users\Administrator\Desktop\091101_LogoMARD.jpg"/>
          <p:cNvPicPr/>
          <p:nvPr/>
        </p:nvPicPr>
        <p:blipFill>
          <a:blip r:embed="rId7"/>
          <a:stretch/>
        </p:blipFill>
        <p:spPr>
          <a:xfrm>
            <a:off x="-334800" y="-19080"/>
            <a:ext cx="1627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101160"/>
            <a:ext cx="7499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HOÀN THIỆN HỆ THỐNG VBQPP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3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7520" y="-19080"/>
            <a:ext cx="162864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84" name="TextBox 4"/>
          <p:cNvGrpSpPr/>
          <p:nvPr/>
        </p:nvGrpSpPr>
        <p:grpSpPr>
          <a:xfrm>
            <a:off x="3767040" y="1073160"/>
            <a:ext cx="5072040" cy="652320"/>
            <a:chOff x="3767040" y="1073160"/>
            <a:chExt cx="5072040" cy="652320"/>
          </a:xfrm>
        </p:grpSpPr>
        <p:pic>
          <p:nvPicPr>
            <p:cNvPr id="385" name="TextBox 4" descr=""/>
            <p:cNvPicPr/>
            <p:nvPr/>
          </p:nvPicPr>
          <p:blipFill>
            <a:blip r:embed="rId2"/>
            <a:stretch/>
          </p:blipFill>
          <p:spPr>
            <a:xfrm>
              <a:off x="3767040" y="1073160"/>
              <a:ext cx="50720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846600" y="1162080"/>
              <a:ext cx="49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UẬT CNC số 21/2008/QH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TextBox 5" descr=""/>
          <p:cNvPicPr/>
          <p:nvPr/>
        </p:nvPicPr>
        <p:blipFill>
          <a:blip r:embed="rId3"/>
          <a:stretch/>
        </p:blipFill>
        <p:spPr>
          <a:xfrm>
            <a:off x="5430960" y="3882960"/>
            <a:ext cx="340200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TextBox 7" descr=""/>
          <p:cNvPicPr/>
          <p:nvPr/>
        </p:nvPicPr>
        <p:blipFill>
          <a:blip r:embed="rId4"/>
          <a:stretch/>
        </p:blipFill>
        <p:spPr>
          <a:xfrm>
            <a:off x="5394240" y="1779480"/>
            <a:ext cx="3438720" cy="804960"/>
          </a:xfrm>
          <a:prstGeom prst="rect">
            <a:avLst/>
          </a:prstGeom>
          <a:ln w="0">
            <a:noFill/>
          </a:ln>
        </p:spPr>
      </p:pic>
      <p:pic>
        <p:nvPicPr>
          <p:cNvPr id="389" name="TextBox 8" descr=""/>
          <p:cNvPicPr/>
          <p:nvPr/>
        </p:nvPicPr>
        <p:blipFill>
          <a:blip r:embed="rId5"/>
          <a:stretch/>
        </p:blipFill>
        <p:spPr>
          <a:xfrm>
            <a:off x="5456160" y="4870440"/>
            <a:ext cx="3376800" cy="80496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9" descr=""/>
          <p:cNvPicPr/>
          <p:nvPr/>
        </p:nvPicPr>
        <p:blipFill>
          <a:blip r:embed="rId6"/>
          <a:stretch/>
        </p:blipFill>
        <p:spPr>
          <a:xfrm>
            <a:off x="5443560" y="5870520"/>
            <a:ext cx="338940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Line 4"/>
          <p:cNvSpPr/>
          <p:nvPr/>
        </p:nvSpPr>
        <p:spPr>
          <a:xfrm>
            <a:off x="1352520" y="94284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TextBox 7" descr=""/>
          <p:cNvPicPr/>
          <p:nvPr/>
        </p:nvPicPr>
        <p:blipFill>
          <a:blip r:embed="rId7"/>
          <a:stretch/>
        </p:blipFill>
        <p:spPr>
          <a:xfrm>
            <a:off x="5413320" y="2706840"/>
            <a:ext cx="3419640" cy="1047600"/>
          </a:xfrm>
          <a:prstGeom prst="rect">
            <a:avLst/>
          </a:prstGeom>
          <a:ln w="0">
            <a:noFill/>
          </a:ln>
        </p:spPr>
      </p:pic>
      <p:pic>
        <p:nvPicPr>
          <p:cNvPr id="393" name="Down Arrow 4" descr=""/>
          <p:cNvPicPr/>
          <p:nvPr/>
        </p:nvPicPr>
        <p:blipFill>
          <a:blip r:embed="rId8"/>
          <a:stretch/>
        </p:blipFill>
        <p:spPr>
          <a:xfrm>
            <a:off x="6218280" y="1560600"/>
            <a:ext cx="384120" cy="414360"/>
          </a:xfrm>
          <a:prstGeom prst="rect">
            <a:avLst/>
          </a:prstGeom>
          <a:ln w="0">
            <a:noFill/>
          </a:ln>
        </p:spPr>
      </p:pic>
      <p:pic>
        <p:nvPicPr>
          <p:cNvPr id="394" name="Down Arrow 13" descr=""/>
          <p:cNvPicPr/>
          <p:nvPr/>
        </p:nvPicPr>
        <p:blipFill>
          <a:blip r:embed="rId9"/>
          <a:stretch/>
        </p:blipFill>
        <p:spPr>
          <a:xfrm>
            <a:off x="7023240" y="3608280"/>
            <a:ext cx="384120" cy="470160"/>
          </a:xfrm>
          <a:prstGeom prst="rect">
            <a:avLst/>
          </a:prstGeom>
          <a:ln w="0">
            <a:noFill/>
          </a:ln>
        </p:spPr>
      </p:pic>
      <p:pic>
        <p:nvPicPr>
          <p:cNvPr id="395" name="Down Arrow 14" descr=""/>
          <p:cNvPicPr/>
          <p:nvPr/>
        </p:nvPicPr>
        <p:blipFill>
          <a:blip r:embed="rId10"/>
          <a:stretch/>
        </p:blipFill>
        <p:spPr>
          <a:xfrm>
            <a:off x="6576840" y="2341440"/>
            <a:ext cx="543240" cy="554040"/>
          </a:xfrm>
          <a:prstGeom prst="rect">
            <a:avLst/>
          </a:prstGeom>
          <a:ln w="0">
            <a:noFill/>
          </a:ln>
        </p:spPr>
      </p:pic>
      <p:pic>
        <p:nvPicPr>
          <p:cNvPr id="396" name="Down Arrow 16" descr=""/>
          <p:cNvPicPr/>
          <p:nvPr/>
        </p:nvPicPr>
        <p:blipFill>
          <a:blip r:embed="rId11"/>
          <a:stretch/>
        </p:blipFill>
        <p:spPr>
          <a:xfrm>
            <a:off x="7370640" y="4559400"/>
            <a:ext cx="382680" cy="469800"/>
          </a:xfrm>
          <a:prstGeom prst="rect">
            <a:avLst/>
          </a:prstGeom>
          <a:ln w="0">
            <a:noFill/>
          </a:ln>
        </p:spPr>
      </p:pic>
      <p:pic>
        <p:nvPicPr>
          <p:cNvPr id="397" name="Down Arrow 17" descr=""/>
          <p:cNvPicPr/>
          <p:nvPr/>
        </p:nvPicPr>
        <p:blipFill>
          <a:blip r:embed="rId12"/>
          <a:stretch/>
        </p:blipFill>
        <p:spPr>
          <a:xfrm>
            <a:off x="7815240" y="5553000"/>
            <a:ext cx="384120" cy="469800"/>
          </a:xfrm>
          <a:prstGeom prst="rect">
            <a:avLst/>
          </a:prstGeom>
          <a:ln w="0">
            <a:noFill/>
          </a:ln>
        </p:spPr>
      </p:pic>
      <p:grpSp>
        <p:nvGrpSpPr>
          <p:cNvPr id="398" name="TextBox 7"/>
          <p:cNvGrpSpPr/>
          <p:nvPr/>
        </p:nvGrpSpPr>
        <p:grpSpPr>
          <a:xfrm>
            <a:off x="1352520" y="1805040"/>
            <a:ext cx="3427560" cy="1035000"/>
            <a:chOff x="1352520" y="1805040"/>
            <a:chExt cx="3427560" cy="1035000"/>
          </a:xfrm>
        </p:grpSpPr>
        <p:pic>
          <p:nvPicPr>
            <p:cNvPr id="399" name="TextBox 7" descr=""/>
            <p:cNvPicPr/>
            <p:nvPr/>
          </p:nvPicPr>
          <p:blipFill>
            <a:blip r:embed="rId13"/>
            <a:stretch/>
          </p:blipFill>
          <p:spPr>
            <a:xfrm>
              <a:off x="1352520" y="1805040"/>
              <a:ext cx="34275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434960" y="1878120"/>
              <a:ext cx="32673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QĐ 66/2014/QĐ-TT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anh mục CNC ƯT ĐTPT &amp; Danh mục SP CNC KK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TextBox 7"/>
          <p:cNvGrpSpPr/>
          <p:nvPr/>
        </p:nvGrpSpPr>
        <p:grpSpPr>
          <a:xfrm>
            <a:off x="1352520" y="2835360"/>
            <a:ext cx="3427560" cy="1041480"/>
            <a:chOff x="1352520" y="2835360"/>
            <a:chExt cx="3427560" cy="1041480"/>
          </a:xfrm>
        </p:grpSpPr>
        <p:pic>
          <p:nvPicPr>
            <p:cNvPr id="402" name="TextBox 7" descr=""/>
            <p:cNvPicPr/>
            <p:nvPr/>
          </p:nvPicPr>
          <p:blipFill>
            <a:blip r:embed="rId14"/>
            <a:stretch/>
          </p:blipFill>
          <p:spPr>
            <a:xfrm>
              <a:off x="1352520" y="2835360"/>
              <a:ext cx="3427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434960" y="2911320"/>
              <a:ext cx="32673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Đ 55/2015/NĐ-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hính sách TD PV PTNN, 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600" spc="-1" strike="noStrike">
                  <a:solidFill>
                    <a:srgbClr val="2806ba"/>
                  </a:solidFill>
                  <a:latin typeface="Arial"/>
                  <a:ea typeface="Arial"/>
                </a:rPr>
                <a:t>Thông tư số 10/2015/TT- NHN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TextBox 7"/>
          <p:cNvGrpSpPr/>
          <p:nvPr/>
        </p:nvGrpSpPr>
        <p:grpSpPr>
          <a:xfrm>
            <a:off x="1352520" y="4627440"/>
            <a:ext cx="3427560" cy="1292400"/>
            <a:chOff x="1352520" y="4627440"/>
            <a:chExt cx="3427560" cy="1292400"/>
          </a:xfrm>
        </p:grpSpPr>
        <p:pic>
          <p:nvPicPr>
            <p:cNvPr id="405" name="TextBox 7" descr=""/>
            <p:cNvPicPr/>
            <p:nvPr/>
          </p:nvPicPr>
          <p:blipFill>
            <a:blip r:embed="rId15"/>
            <a:stretch/>
          </p:blipFill>
          <p:spPr>
            <a:xfrm>
              <a:off x="1352520" y="4627440"/>
              <a:ext cx="34275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434960" y="4705200"/>
              <a:ext cx="3267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Đ 43/2014/NĐ-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QĐ thi hành MSĐ Luật Đất đa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T 24/2014/TT-BTN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QĐ về Hồ sơ địa chín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TextBox 7"/>
          <p:cNvGrpSpPr/>
          <p:nvPr/>
        </p:nvGrpSpPr>
        <p:grpSpPr>
          <a:xfrm>
            <a:off x="1352520" y="4022640"/>
            <a:ext cx="3427560" cy="549360"/>
            <a:chOff x="1352520" y="4022640"/>
            <a:chExt cx="3427560" cy="549360"/>
          </a:xfrm>
        </p:grpSpPr>
        <p:pic>
          <p:nvPicPr>
            <p:cNvPr id="408" name="TextBox 7" descr=""/>
            <p:cNvPicPr/>
            <p:nvPr/>
          </p:nvPicPr>
          <p:blipFill>
            <a:blip r:embed="rId16"/>
            <a:stretch/>
          </p:blipFill>
          <p:spPr>
            <a:xfrm>
              <a:off x="1352520" y="4022640"/>
              <a:ext cx="3427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434960" y="4095720"/>
              <a:ext cx="32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uật ĐĐ số 45/2013/QH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7"/>
          <p:cNvGrpSpPr/>
          <p:nvPr/>
        </p:nvGrpSpPr>
        <p:grpSpPr>
          <a:xfrm>
            <a:off x="1352520" y="6066000"/>
            <a:ext cx="3427560" cy="547560"/>
            <a:chOff x="1352520" y="6066000"/>
            <a:chExt cx="3427560" cy="547560"/>
          </a:xfrm>
        </p:grpSpPr>
        <p:pic>
          <p:nvPicPr>
            <p:cNvPr id="411" name="TextBox 7" descr=""/>
            <p:cNvPicPr/>
            <p:nvPr/>
          </p:nvPicPr>
          <p:blipFill>
            <a:blip r:embed="rId17"/>
            <a:stretch/>
          </p:blipFill>
          <p:spPr>
            <a:xfrm>
              <a:off x="1352520" y="6066000"/>
              <a:ext cx="3427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434960" y="6140520"/>
              <a:ext cx="32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uật ĐĐ số 67/2014/QH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Down Arrow 25"/>
          <p:cNvGrpSpPr/>
          <p:nvPr/>
        </p:nvGrpSpPr>
        <p:grpSpPr>
          <a:xfrm>
            <a:off x="1743120" y="3736800"/>
            <a:ext cx="366840" cy="463680"/>
            <a:chOff x="1743120" y="3736800"/>
            <a:chExt cx="366840" cy="463680"/>
          </a:xfrm>
        </p:grpSpPr>
        <p:pic>
          <p:nvPicPr>
            <p:cNvPr id="414" name="Down Arrow 25" descr=""/>
            <p:cNvPicPr/>
            <p:nvPr/>
          </p:nvPicPr>
          <p:blipFill>
            <a:blip r:embed="rId18"/>
            <a:stretch/>
          </p:blipFill>
          <p:spPr>
            <a:xfrm>
              <a:off x="1743120" y="3736800"/>
              <a:ext cx="366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874880" y="3789360"/>
              <a:ext cx="98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Left Brace 5"/>
          <p:cNvSpPr/>
          <p:nvPr/>
        </p:nvSpPr>
        <p:spPr>
          <a:xfrm>
            <a:off x="5191200" y="2084400"/>
            <a:ext cx="196920" cy="4265640"/>
          </a:xfrm>
          <a:custGeom>
            <a:avLst/>
            <a:gdLst>
              <a:gd name="textAreaLeft" fmla="*/ 126000 w 196920"/>
              <a:gd name="textAreaRight" fmla="*/ 197280 w 196920"/>
              <a:gd name="textAreaTop" fmla="*/ 5040 h 4265640"/>
              <a:gd name="textAreaBottom" fmla="*/ 4260600 h 426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"/>
                  <a:pt x="10800" y="83"/>
                </a:cubicBezTo>
                <a:lnTo>
                  <a:pt x="10800" y="10717"/>
                </a:lnTo>
                <a:cubicBezTo>
                  <a:pt x="10800" y="10759"/>
                  <a:pt x="5400" y="10800"/>
                  <a:pt x="0" y="10800"/>
                </a:cubicBezTo>
                <a:cubicBezTo>
                  <a:pt x="5400" y="10800"/>
                  <a:pt x="10800" y="10842"/>
                  <a:pt x="10800" y="10883"/>
                </a:cubicBezTo>
                <a:lnTo>
                  <a:pt x="10800" y="21517"/>
                </a:lnTo>
                <a:cubicBezTo>
                  <a:pt x="10800" y="2155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1260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Striped Right Arrow 6" descr=""/>
          <p:cNvPicPr/>
          <p:nvPr/>
        </p:nvPicPr>
        <p:blipFill>
          <a:blip r:embed="rId19"/>
          <a:stretch/>
        </p:blipFill>
        <p:spPr>
          <a:xfrm>
            <a:off x="4718160" y="2163600"/>
            <a:ext cx="549000" cy="298440"/>
          </a:xfrm>
          <a:prstGeom prst="rect">
            <a:avLst/>
          </a:prstGeom>
          <a:ln w="0">
            <a:noFill/>
          </a:ln>
        </p:spPr>
      </p:pic>
      <p:pic>
        <p:nvPicPr>
          <p:cNvPr id="418" name="Striped Right Arrow 7" descr=""/>
          <p:cNvPicPr/>
          <p:nvPr/>
        </p:nvPicPr>
        <p:blipFill>
          <a:blip r:embed="rId20"/>
          <a:stretch/>
        </p:blipFill>
        <p:spPr>
          <a:xfrm>
            <a:off x="4711680" y="3206880"/>
            <a:ext cx="566640" cy="322200"/>
          </a:xfrm>
          <a:prstGeom prst="rect">
            <a:avLst/>
          </a:prstGeom>
          <a:ln w="0">
            <a:noFill/>
          </a:ln>
        </p:spPr>
      </p:pic>
      <p:pic>
        <p:nvPicPr>
          <p:cNvPr id="419" name="Striped Right Arrow 31" descr=""/>
          <p:cNvPicPr/>
          <p:nvPr/>
        </p:nvPicPr>
        <p:blipFill>
          <a:blip r:embed="rId21"/>
          <a:stretch/>
        </p:blipFill>
        <p:spPr>
          <a:xfrm>
            <a:off x="4711680" y="4035600"/>
            <a:ext cx="566640" cy="323640"/>
          </a:xfrm>
          <a:prstGeom prst="rect">
            <a:avLst/>
          </a:prstGeom>
          <a:ln w="0">
            <a:noFill/>
          </a:ln>
        </p:spPr>
      </p:pic>
      <p:pic>
        <p:nvPicPr>
          <p:cNvPr id="420" name="Striped Right Arrow 32" descr=""/>
          <p:cNvPicPr/>
          <p:nvPr/>
        </p:nvPicPr>
        <p:blipFill>
          <a:blip r:embed="rId22"/>
          <a:stretch/>
        </p:blipFill>
        <p:spPr>
          <a:xfrm>
            <a:off x="4711680" y="5078520"/>
            <a:ext cx="566640" cy="322200"/>
          </a:xfrm>
          <a:prstGeom prst="rect">
            <a:avLst/>
          </a:prstGeom>
          <a:ln w="0">
            <a:noFill/>
          </a:ln>
        </p:spPr>
      </p:pic>
      <p:pic>
        <p:nvPicPr>
          <p:cNvPr id="421" name="Striped Right Arrow 33" descr=""/>
          <p:cNvPicPr/>
          <p:nvPr/>
        </p:nvPicPr>
        <p:blipFill>
          <a:blip r:embed="rId23"/>
          <a:stretch/>
        </p:blipFill>
        <p:spPr>
          <a:xfrm>
            <a:off x="4711680" y="6175440"/>
            <a:ext cx="5666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7520" y="-36360"/>
            <a:ext cx="1628640" cy="19206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4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CHƯƠNG TRÌNH PHÁT TRIỂN NNUDC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338120" y="103680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Tiêu chí xây dựng khu NNUDC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338120" y="1557360"/>
            <a:ext cx="746460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13204"/>
                </a:solidFill>
                <a:latin typeface="Arial"/>
              </a:rPr>
              <a:t>Khu NNUDCNC thuộc quy hoạch tổng thể phải đáp ứng các quy định tại Điều 32 L_CNC và các quy định sau đâ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Khu nông nghiệp ứng dụng công nghệ cao bao gồm các phân khu chức năng chủ yế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hu trung tâm hành chín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hu nghiên cứu ứng dụng, thử nghiệm và trình diễn mô hình sản xuất nông nghiệp ứng dụng công nghệ c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hu đào tạo, chuyển giao công nghệ, trình diễn và giới thiệu sản phẩm nông nghiệp ứng dụng công nghệ c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hu đầu tư sản xuất sản phẩm nông nghiệp ứng dụng công nghệ c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hu xử lý chất thả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28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7520" y="-36360"/>
            <a:ext cx="1628640" cy="1920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CHƯƠNG TRÌNH PHÁT TRIỂN NNUDC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1338120" y="1146240"/>
            <a:ext cx="43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Xây dựng khu NNUDC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1338120" y="1816200"/>
            <a:ext cx="74041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Hoạt động của khu nông nghiệp ứng dụng công nghệ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ạt động khoa học và công nghệ: R&amp;D; thử nghiệm, trình diễn mô hình; Chuyển giao công nghệ ca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ạt động đào tạo nhân lực công nghệ cao: công nhân, kỹ thuật viên, cán bộ quản l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ạt động sản xuất, dịch vụ: Sản phẩm NNCNC; hội chợ, triển lãm; trình diễn sản phẩm, tư vấ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m gia các hoạt động ươm tạo công nghệ cao lĩnh vực nông nghiệp, ươm tạo doanh nghiệp nông nghiệp ứng dụng công nghệ c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40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34800" y="-36360"/>
            <a:ext cx="1627200" cy="19206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CHƯƠNG TRÌNH PHÁT TRIỂN NNUDC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1338120" y="1028880"/>
            <a:ext cx="43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Chính sách ưu đã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1338120" y="1563840"/>
            <a:ext cx="740412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) Ưu đãi về đất đai: ưu đãi cao nhất theo quy định của pháp luật về đất đai và các văn bản quy định của pháp luật về đất đ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) Hỗ trợ đầu tư xây dựng khu và vùng thuộc QH tổng th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u do TTg CP QĐ thành lập: Căn cứ điều kiện cụ thể, NSNH hỗ trợ tối đa không quá 70% (hạ tầng thông tin, giao thông, điện, nước, trụ sở điều hành, hệ thống xử lý chất thả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ối với vùng NNUDCNC: hạ tầng trong vùng (hệ thống giao thông, hệ thống thủy lợi tưới tiêu và xử lý chất thải) theo các dự án được duyệ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Ưu đãi khác do Chính phủ quy định theo thẩm quyề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ính sách đặc thù của Tỉnh, Thành ph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52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34800" y="-36360"/>
            <a:ext cx="1627200" cy="1920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http://giatour.vn/wp-content/uploads/2013/07/da-lat-11.jpg"/>
          <p:cNvPicPr/>
          <p:nvPr/>
        </p:nvPicPr>
        <p:blipFill>
          <a:blip r:embed="rId2"/>
          <a:stretch/>
        </p:blipFill>
        <p:spPr>
          <a:xfrm>
            <a:off x="-4680" y="6269040"/>
            <a:ext cx="1471680" cy="601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DSC05336"/>
          <p:cNvPicPr/>
          <p:nvPr/>
        </p:nvPicPr>
        <p:blipFill>
          <a:blip r:embed="rId3"/>
          <a:stretch/>
        </p:blipFill>
        <p:spPr>
          <a:xfrm>
            <a:off x="1467000" y="6269040"/>
            <a:ext cx="1603080" cy="601560"/>
          </a:xfrm>
          <a:prstGeom prst="rect">
            <a:avLst/>
          </a:prstGeom>
          <a:ln w="0">
            <a:noFill/>
          </a:ln>
        </p:spPr>
      </p:pic>
      <p:pic>
        <p:nvPicPr>
          <p:cNvPr id="461" name="図 5" descr=""/>
          <p:cNvPicPr/>
          <p:nvPr/>
        </p:nvPicPr>
        <p:blipFill>
          <a:blip r:embed="rId4"/>
          <a:stretch/>
        </p:blipFill>
        <p:spPr>
          <a:xfrm>
            <a:off x="3057480" y="6269040"/>
            <a:ext cx="1567080" cy="601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DSC06006"/>
          <p:cNvPicPr/>
          <p:nvPr/>
        </p:nvPicPr>
        <p:blipFill>
          <a:blip r:embed="rId5"/>
          <a:stretch/>
        </p:blipFill>
        <p:spPr>
          <a:xfrm>
            <a:off x="4624560" y="6269040"/>
            <a:ext cx="1601640" cy="601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DSCF1561"/>
          <p:cNvPicPr/>
          <p:nvPr/>
        </p:nvPicPr>
        <p:blipFill>
          <a:blip r:embed="rId6"/>
          <a:stretch/>
        </p:blipFill>
        <p:spPr>
          <a:xfrm>
            <a:off x="7743960" y="6269040"/>
            <a:ext cx="1412640" cy="6015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CHƯƠNG TRÌNH PHÁT TRIỂN NNUDC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338120" y="1036800"/>
            <a:ext cx="43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Xây dựng khu NNUDC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1979640" y="1557360"/>
            <a:ext cx="67993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660066"/>
                </a:solidFill>
                <a:latin typeface="Arial"/>
              </a:rPr>
              <a:t>QH Khu NNCNC Đến năm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Khu NNUDCNC Hậu Giang (QĐ 1152/QĐ-TTg;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Khu NNUDCNC Phú Yên (QĐ 2293/QĐ-TTg;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6600"/>
                </a:solidFill>
                <a:latin typeface="Arial"/>
              </a:rPr>
              <a:t>Khu NNUDCNC Thái Nguyê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6600"/>
                </a:solidFill>
                <a:latin typeface="Arial"/>
              </a:rPr>
              <a:t>Khu NNUDCNC Thanh Hó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6600"/>
                </a:solidFill>
                <a:latin typeface="Arial"/>
              </a:rPr>
              <a:t>Khu NNUDCNC Lâm Đồ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Khu NNUDCNC Quảng Nin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Khu NNUDCNC Khánh Hò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Khu NNUDCNC Thành phố Hồ Chí Min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Khu NNUDCNC Bình Dư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Khu NNUDCNC cần Th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http://img.giaoducvietnam.vn/w500/Uploaded/tuanluc/2015_04_07/trangtrai4.jpg"/>
          <p:cNvPicPr/>
          <p:nvPr/>
        </p:nvPicPr>
        <p:blipFill>
          <a:blip r:embed="rId7"/>
          <a:stretch/>
        </p:blipFill>
        <p:spPr>
          <a:xfrm>
            <a:off x="6226200" y="6269040"/>
            <a:ext cx="15177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34800" y="-36360"/>
            <a:ext cx="1627200" cy="192060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4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CHƯƠNG TRÌNH PHÁT TRIỂN NNUDC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157400" y="1195560"/>
            <a:ext cx="7434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457200" algn="just">
              <a:lnSpc>
                <a:spcPct val="118000"/>
              </a:lnSpc>
              <a:buClr>
                <a:srgbClr val="2806ba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2806ba"/>
                </a:solidFill>
                <a:latin typeface="Arial"/>
                <a:ea typeface="Arial"/>
              </a:rPr>
              <a:t>Phát triển vùng NNUDC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1467000" y="1924200"/>
            <a:ext cx="71244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Tập trung vào các đối tượng:</a:t>
            </a:r>
            <a:r>
              <a:rPr b="0" lang="pl-PL" sz="1800" spc="-1" strike="noStrike">
                <a:solidFill>
                  <a:srgbClr val="2806ba"/>
                </a:solidFill>
                <a:latin typeface="Arial"/>
                <a:ea typeface="Arial"/>
              </a:rPr>
              <a:t> rau, hoa, cà phê, chè, thanh long, bò sữa, bò thịt, gia cầm, tôm (mặn, lợ).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Trong thực tế đã xuất hiện các mô hình vùng sản xuất tập trung có ứng dụng CN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Sản xuất rau quả, thịt lợn, gà được chứng nhận mang lại giá trị gia tăng cao cho SP (quả thanh long, rau, sản phẩm thịt lợn, thịt gà, tô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Sản xuất chè, cà phê, hồ tiêu có chứng nhận (Utz, Rainforest, 4C, GlobalGAP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360" indent="-285840" algn="just">
              <a:spcBef>
                <a:spcPts val="601"/>
              </a:spcBef>
              <a:spcAft>
                <a:spcPts val="601"/>
              </a:spcAft>
              <a:buClr>
                <a:srgbClr val="2806ba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Do khung pháp lý mới hình thành, đến nay, c</a:t>
            </a:r>
            <a:r>
              <a:rPr b="0" lang="sv-SE" sz="1800" spc="-1" strike="noStrike">
                <a:solidFill>
                  <a:srgbClr val="2806ba"/>
                </a:solidFill>
                <a:latin typeface="Arial"/>
                <a:ea typeface="Arial"/>
              </a:rPr>
              <a:t>hưa có vùng NNCNC  được công nhận.</a:t>
            </a:r>
            <a:r>
              <a:rPr b="0" lang="en-US" sz="1800" spc="-1" strike="noStrike">
                <a:solidFill>
                  <a:srgbClr val="2806b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36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8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75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C:\Users\Administrator\Desktop\091101_LogoMARD.jpg"/>
          <p:cNvPicPr/>
          <p:nvPr/>
        </p:nvPicPr>
        <p:blipFill>
          <a:blip r:embed="rId1"/>
          <a:stretch/>
        </p:blipFill>
        <p:spPr>
          <a:xfrm>
            <a:off x="-317520" y="-36360"/>
            <a:ext cx="1628640" cy="192060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4"/>
          <p:cNvSpPr/>
          <p:nvPr/>
        </p:nvSpPr>
        <p:spPr>
          <a:xfrm>
            <a:off x="1008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11617"/>
                </a:solidFill>
                <a:latin typeface="Arial"/>
                <a:ea typeface="Arial"/>
              </a:rPr>
              <a:t>CHƯƠNG TRÌNH PHÁT TRIỂN NNUDC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1352520" y="966960"/>
            <a:ext cx="7238880" cy="0"/>
          </a:xfrm>
          <a:prstGeom prst="line">
            <a:avLst/>
          </a:prstGeom>
          <a:ln w="38160">
            <a:solidFill>
              <a:srgbClr val="4b2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338120" y="1028880"/>
            <a:ext cx="43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Doanh nghiệp NNUDC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1460520" y="1811160"/>
            <a:ext cx="708336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ổng số có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25 Doanh nghiệp được chứng nhận là DN nông nghiệp ứng dụng công nghệ cao, gồ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9 Doanh nghiệp UDCNC trong sản xuất trồng trọt (rau, hoa, sản xuất chế biến chè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8 Doanh nghiệp ứng dụng CNC trong lĩnh vực chăn nuôi (bò sữa, lợn, gà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8 Doanh nghiệp ứng dụng CNC trong lĩnh vực nuôi trồng thủy sả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ng đó có 09 Doanh nghiệp hoạt động tại Lâm Đồ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2"/>
          <p:cNvGrpSpPr/>
          <p:nvPr/>
        </p:nvGrpSpPr>
        <p:grpSpPr>
          <a:xfrm>
            <a:off x="-4680" y="6269040"/>
            <a:ext cx="9161280" cy="601560"/>
            <a:chOff x="-4680" y="6269040"/>
            <a:chExt cx="9161280" cy="601560"/>
          </a:xfrm>
        </p:grpSpPr>
        <p:pic>
          <p:nvPicPr>
            <p:cNvPr id="487" name="Picture 4" descr="http://giatour.vn/wp-content/uploads/2013/07/da-lat-11.jpg"/>
            <p:cNvPicPr/>
            <p:nvPr/>
          </p:nvPicPr>
          <p:blipFill>
            <a:blip r:embed="rId2"/>
            <a:stretch/>
          </p:blipFill>
          <p:spPr>
            <a:xfrm>
              <a:off x="-4680" y="6269040"/>
              <a:ext cx="14713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" descr="DSC05336"/>
            <p:cNvPicPr/>
            <p:nvPr/>
          </p:nvPicPr>
          <p:blipFill>
            <a:blip r:embed="rId3"/>
            <a:stretch/>
          </p:blipFill>
          <p:spPr>
            <a:xfrm>
              <a:off x="146664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図 5" descr=""/>
            <p:cNvPicPr/>
            <p:nvPr/>
          </p:nvPicPr>
          <p:blipFill>
            <a:blip r:embed="rId4"/>
            <a:stretch/>
          </p:blipFill>
          <p:spPr>
            <a:xfrm>
              <a:off x="3057480" y="6269040"/>
              <a:ext cx="15660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2" descr="DSC06006"/>
            <p:cNvPicPr/>
            <p:nvPr/>
          </p:nvPicPr>
          <p:blipFill>
            <a:blip r:embed="rId5"/>
            <a:stretch/>
          </p:blipFill>
          <p:spPr>
            <a:xfrm>
              <a:off x="4623480" y="6269040"/>
              <a:ext cx="1602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5" descr="DSCF1561"/>
            <p:cNvPicPr/>
            <p:nvPr/>
          </p:nvPicPr>
          <p:blipFill>
            <a:blip r:embed="rId6"/>
            <a:stretch/>
          </p:blipFill>
          <p:spPr>
            <a:xfrm>
              <a:off x="7743240" y="6269040"/>
              <a:ext cx="14133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" descr="http://img.giaoducvietnam.vn/w500/Uploaded/tuanluc/2015_04_07/trangtrai4.jpg"/>
            <p:cNvPicPr/>
            <p:nvPr/>
          </p:nvPicPr>
          <p:blipFill>
            <a:blip r:embed="rId7"/>
            <a:stretch/>
          </p:blipFill>
          <p:spPr>
            <a:xfrm>
              <a:off x="6226560" y="6269040"/>
              <a:ext cx="15166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1T07:25:34Z</dcterms:created>
  <dc:creator>NC D</dc:creator>
  <dc:description/>
  <dc:language>en-US</dc:language>
  <cp:lastModifiedBy>admin</cp:lastModifiedBy>
  <dcterms:modified xsi:type="dcterms:W3CDTF">2017-03-06T01:55:36Z</dcterms:modified>
  <cp:revision>250</cp:revision>
  <dc:subject/>
  <dc:title>Developing regulations in developing countries in South East Asia</dc:title>
</cp:coreProperties>
</file>